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AE5A-487A-4506-B966-463821F0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9C8A-9078-46A9-BD97-0233B3A8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D34-7FDA-4B63-9FE1-1B030947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3B60-4CB8-4749-9157-9B5D3642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399-71B7-4FF8-ACFA-654DCEC4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441-D908-409F-82A0-81C6F414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770-8DCB-4693-B80B-5AE853C4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7B54-C318-4FBC-A956-EB73E15F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2E4-B196-4352-B258-3B0D13F5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C8D-53B2-48D8-93B6-F4AC4D08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E6F-8FD7-4195-9EBA-3387A657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94C-6D7C-4F09-8831-D0462FE8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3814-D4BA-48E4-BDE8-91BBB29B7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cess-Independent FPGA Interconnect in Py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eph F. R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rocess-Independent FPGA Interconnect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the PyCel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lean code to showcase PyC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ed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Cell is quite good but handles objects in a weird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OO structure is destroyed (flattened, burned, etc) after object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he most out of PyCell, I set to fix th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nce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ly duplicates DloGen procedure, saving intern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provides method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track of and auto-completing routing l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ymmetrical abu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e Transis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the MyTransistorUnit in the tutorial, but provides many handy access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, instead of, to get a transistor object’s drain rectang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: tran.getComp(-3).getRect1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ran.drai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veT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C independent, but sti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gon-pu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the concept of “lanes” to which to tie to the Q or Q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internally manipulated after creation, e.g. adding spa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 soft-tiled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oretically) Bitcell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ly polygon-pushed to achieve a simpler tiling (wasted too much time on thi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D, VSS, BL, and WL are auto-generat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Cell extension works as hop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Independent layout is quite easy, although polygon-pushing is still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out mostly complete, need to finish debugging lane anchoring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06:37:44Z</dcterms:created>
  <dc:creator>Joseph F. Ryan</dc:creator>
  <dc:description/>
  <dc:language>en-US</dc:language>
  <cp:lastModifiedBy>Joseph F. Ryan</cp:lastModifiedBy>
  <dcterms:modified xsi:type="dcterms:W3CDTF">2010-05-07T18:08:39Z</dcterms:modified>
  <cp:revision>10</cp:revision>
  <dc:subject/>
  <dc:title>A Process-Independent FPGA Interconnect in PyCell</dc:title>
</cp:coreProperties>
</file>